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0C8-3877-4614-93CF-5D149D17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B9A-D679-40EA-BCCE-F68611DF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913-2107-4429-94FD-66614B19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239-9DDA-4D99-B34B-EA024058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B31-BF10-42F2-A64A-C0C69E92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2F29-DA44-4778-BDFE-44C2089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6697-B295-4AD6-9BB0-148BF0F4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8102-8377-4A91-88F4-715341A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9131-B5E1-4BD7-BFB0-A88D261A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49CB-1ACF-4A3B-BCE9-488E4E7E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86D1-BE42-4802-9284-31054CCD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E16-9B3A-4520-95C3-0D056BF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C1BB-5E2C-48A4-96F3-02CED7E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762B-D96F-4DB0-9465-6F27803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9A2C-0101-4F49-B568-DC144AEE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E9FA-A8AE-4125-BD1A-05A564EC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2301-FFE7-465E-AB23-C69BFF2C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DAE8-116A-42A5-A308-4E27C11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79F4-7FC8-453F-90E4-AEDB2A94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3164-9C24-4706-885E-0005898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179A-5F30-478B-B4FB-8D7FFA15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B519-AB03-4425-BCA3-261766B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CB2-13EC-4B8E-99AF-A3FACA1E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071A-CFE0-4204-8216-47012C7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0219-7F92-4CEC-A1ED-C4B0ABB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8210-4FC2-44C1-B3AA-8A1896D8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251D-A599-48B6-B0F3-AD71F5B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160F-7F5B-4C01-A8E0-0D89481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C418-D957-494C-84C4-0AAA05B0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6CEB-E847-470C-AB44-14C17076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99D3-42C6-4C64-B5D8-58612B55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B847-1326-40DE-96C3-AE262D7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6AA8-2977-430C-BEF7-73EDC318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795-45FF-4F6C-A897-11FBAC5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585B-EEB8-49FA-9C2D-A9152FF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1E61-7C47-45D3-AE3C-16858DAC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F918-0E6D-4D1D-A85F-867FE64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DDF3-D901-438A-833C-FAA257D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4F0C-B21E-4A17-9D85-2B4B224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46BA-1FD0-43D9-9E6D-25E9A61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E238-7836-4A1D-BBEF-B62B8E2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EA60-725A-4840-B774-F516050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0CFE-1B26-4CE3-8DB8-4D08D346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DBCB-916A-4BC9-9609-25E37F6C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32F-A6CF-4BB5-BF63-7D55AC4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1E5C-46D8-4753-9FD4-378FBC6F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A015-05D6-45B7-B8C0-AEEDF63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A436-E171-4C26-8269-8040F87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945A-6741-46F8-AABB-4CDC5AFD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D323-1D37-42DD-A396-9D5B7C47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940C-8B59-4298-A23E-5C1EE1C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CBCB-D673-4D1F-9FD5-D5AC653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3D4D-6AF8-4D75-B293-B701DAB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2FD91-72CC-4BD5-95EF-5B1C04EA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8D7A-F8BC-4B61-8217-39DB963E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9D6-6E29-4AF3-81C3-B1DAF07C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74E3-6F00-448D-82C3-A21C91B5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29296-035D-4187-9E84-659449E8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CCB9-DB72-42B9-9661-40D39F5E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7D6F-56A3-4B2C-A7B0-B9E89DC7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06BA-ADA0-4FA4-BCE5-94867D63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9D43-2B9D-4AB6-A08D-7931AAD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5E85-2B0B-46FD-A9A4-97CAA91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2B04-4F17-4114-96DA-4114B64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40E0-388B-43A3-915D-742033FC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F9AD-56F2-455A-9288-2DC0D21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2B5-B66B-4077-9F96-39E1089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4FED-E14A-4A68-963C-3FDCF0C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5F58-FB83-45FA-9E69-EFF59E77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9FBD-AFB1-471A-81E3-399809E3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6E48-8FB5-4C91-AD34-E0803F74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CCE1-36B4-4979-915B-558E6AD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F607-E6F6-4593-9129-B07450E4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4BE7-397A-4E79-A86B-D68C262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42E0-0512-4914-B83B-D23B07C7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35A5-E9A9-41C9-A465-38090AD0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CEF84-6173-48DD-AD5D-86ABC39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1CF-D08E-46B4-B5DF-2DE416B8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6F0BB-CE35-4058-AA73-D4B24F3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DB4F1-7B79-4E6E-B1F4-FFC1B79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7ADBF-2ECD-43AB-A5CB-7C27D40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09D9A-1F2F-43AE-8F95-3BE9468D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E723-CDB0-4C02-AB2B-82EC4295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0D7-590B-47AA-BAD1-187AFC6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AA90-54AF-4846-9FBA-DFAD9B5D3F0C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376-A201-4A80-B92A-A035C59588EB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8E4D-F5DE-4E8C-9A9E-B9D4457F1BF5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DC6-C5B2-44F3-8112-D6B9010564C0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0FF-5126-4A6D-A964-C9D7E053D185}" type="slidenum">
              <a:rPr b="0" lang="pt-BR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803-3ACC-4E81-B2F9-0C03AF6C8641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0BF5-37A0-43F3-AC5F-512DA64AB372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7"/>
          <p:cNvSpPr/>
          <p:nvPr/>
        </p:nvSpPr>
        <p:spPr>
          <a:xfrm>
            <a:off x="324000" y="3068640"/>
            <a:ext cx="8569080" cy="300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ESTAÇÃO DE CO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ECUÇÃO ORÇAMENTÁRIA REFERENTE 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DO – LEI DE DIRETRIZES ORÇAMENTÁRIAS/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 responsabilidade na gestão fiscal pressupõe a ação planejada e transparente, em que se previnem riscos e corrigem desvios capazes de afetar o equilíbrio das contas públicas” (LRF – Art. 1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5" descr=""/>
          <p:cNvPicPr/>
          <p:nvPr/>
        </p:nvPicPr>
        <p:blipFill>
          <a:blip r:embed="rId1"/>
          <a:stretch/>
        </p:blipFill>
        <p:spPr>
          <a:xfrm>
            <a:off x="1908000" y="480960"/>
            <a:ext cx="48960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72"/>
          <p:cNvSpPr/>
          <p:nvPr/>
        </p:nvSpPr>
        <p:spPr>
          <a:xfrm>
            <a:off x="500040" y="19890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50"/>
                </a:solidFill>
                <a:latin typeface="Arial"/>
                <a:ea typeface="Arial"/>
              </a:rPr>
              <a:t>APLICAÇÃO DO PERCENTUAL MÍNIMO DE 60% DOS RECURSOS ORIUNDOS DO FUNDEB NA REMUNERAÇÃO DOS PROFISSIONAIS DO MAGISTÉRIO (Lei nº 11.494/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95360" y="6188040"/>
          <a:ext cx="1457280" cy="23781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 gridSpan="7"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668160" y="3357720"/>
          <a:ext cx="8151840" cy="2016000"/>
        </p:xfrm>
        <a:graphic>
          <a:graphicData uri="http://schemas.openxmlformats.org/drawingml/2006/table">
            <a:tbl>
              <a:tblPr/>
              <a:tblGrid>
                <a:gridCol w="2036880"/>
                <a:gridCol w="2106720"/>
                <a:gridCol w="2143080"/>
                <a:gridCol w="1865160"/>
              </a:tblGrid>
              <a:tr h="103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do FUND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apli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Ga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 Apl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2.443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81.466,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07.911,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4" name="Imagem 6" descr=""/>
          <p:cNvPicPr/>
          <p:nvPr/>
        </p:nvPicPr>
        <p:blipFill>
          <a:blip r:embed="rId1"/>
          <a:stretch/>
        </p:blipFill>
        <p:spPr>
          <a:xfrm>
            <a:off x="2195640" y="587520"/>
            <a:ext cx="4176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CaixaDeTexto 3"/>
          <p:cNvSpPr/>
          <p:nvPr/>
        </p:nvSpPr>
        <p:spPr>
          <a:xfrm>
            <a:off x="3419640" y="549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aixaDeTexto 4"/>
          <p:cNvSpPr/>
          <p:nvPr/>
        </p:nvSpPr>
        <p:spPr>
          <a:xfrm>
            <a:off x="1620720" y="2060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Repasse do Duodécimo à Câm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755640" y="2781360"/>
          <a:ext cx="7886880" cy="1600200"/>
        </p:xfrm>
        <a:graphic>
          <a:graphicData uri="http://schemas.openxmlformats.org/drawingml/2006/table">
            <a:tbl>
              <a:tblPr/>
              <a:tblGrid>
                <a:gridCol w="2657520"/>
                <a:gridCol w="2541600"/>
                <a:gridCol w="268776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Autorizado para 20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passado até AGOSTO/20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80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44.343,7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44.343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8" name="CaixaDeTexto 7"/>
          <p:cNvSpPr/>
          <p:nvPr/>
        </p:nvSpPr>
        <p:spPr>
          <a:xfrm>
            <a:off x="2411280" y="479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 mensal R$ 128.695,3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Imagem 7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09564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tângulo 9"/>
          <p:cNvSpPr/>
          <p:nvPr/>
        </p:nvSpPr>
        <p:spPr>
          <a:xfrm>
            <a:off x="1866600" y="1700280"/>
            <a:ext cx="50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pesas com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mite Máximo: 5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mite Prudencial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95% x 54%)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1,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2852640"/>
          <a:ext cx="8229600" cy="1751040"/>
        </p:xfrm>
        <a:graphic>
          <a:graphicData uri="http://schemas.openxmlformats.org/drawingml/2006/table">
            <a:tbl>
              <a:tblPr/>
              <a:tblGrid>
                <a:gridCol w="3745080"/>
                <a:gridCol w="2430360"/>
                <a:gridCol w="2054160"/>
              </a:tblGrid>
              <a:tr h="109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Corrente Líquid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com Pesso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DER EXECU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65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97.98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07.285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55f51"/>
                      </a:solidFill>
                    </a:lnL>
                    <a:lnR w="5760">
                      <a:solidFill>
                        <a:srgbClr val="455f51"/>
                      </a:solidFill>
                    </a:lnR>
                    <a:lnT w="5760">
                      <a:solidFill>
                        <a:srgbClr val="455f51"/>
                      </a:solidFill>
                    </a:lnT>
                    <a:lnB w="5760">
                      <a:solidFill>
                        <a:srgbClr val="455f5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5"/>
          <p:cNvSpPr/>
          <p:nvPr/>
        </p:nvSpPr>
        <p:spPr>
          <a:xfrm>
            <a:off x="1258920" y="115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3a537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700360" y="357120"/>
            <a:ext cx="5256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3a537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CaixaDeTexto 1"/>
          <p:cNvSpPr/>
          <p:nvPr/>
        </p:nvSpPr>
        <p:spPr>
          <a:xfrm>
            <a:off x="971640" y="5373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 DO MUNICÍPIO: R$ 16.726.909,04 =&gt; 55,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aixaDeTexto 1"/>
          <p:cNvSpPr/>
          <p:nvPr/>
        </p:nvSpPr>
        <p:spPr>
          <a:xfrm>
            <a:off x="1258920" y="472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R LEGISLATIVO: R$ 1.119.623,10 =&gt; 3,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Imagem 8" descr=""/>
          <p:cNvPicPr/>
          <p:nvPr/>
        </p:nvPicPr>
        <p:blipFill>
          <a:blip r:embed="rId1"/>
          <a:stretch/>
        </p:blipFill>
        <p:spPr>
          <a:xfrm>
            <a:off x="108000" y="279360"/>
            <a:ext cx="28083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7"/>
          <p:cNvSpPr/>
          <p:nvPr/>
        </p:nvSpPr>
        <p:spPr>
          <a:xfrm>
            <a:off x="2700360" y="1341360"/>
            <a:ext cx="525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3a537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00b050"/>
                </a:solidFill>
                <a:latin typeface="Arial"/>
              </a:rPr>
              <a:t>AÇÕES DA SAÚDE - EXERCÍCIO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ixaDeTexto 1"/>
          <p:cNvSpPr/>
          <p:nvPr/>
        </p:nvSpPr>
        <p:spPr>
          <a:xfrm>
            <a:off x="755640" y="2060640"/>
            <a:ext cx="7488360" cy="34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ISLAÇÃO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I COMPLEMENTAR Nº 14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gulamenta o § 3</a:t>
            </a:r>
            <a:r>
              <a:rPr b="1" lang="pt-BR" sz="1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 do art. 198 da Constituição Federal para dispor sobre os valores mínimos a serem aplicados anualmente pela União, Estados, Distrito Federal e Municípios em ações e serviços públicos de saúde; estabelece os critérios de rateio dos recursos de transferências para a saúde e as normas de fiscalização, avaliação e controle das despesas com saúde nas 3 (três) esferas de governo; revoga dispositivos das Leis n</a:t>
            </a:r>
            <a:r>
              <a:rPr b="1" lang="pt-BR" sz="1000" spc="-1" strike="noStrike" u="sng" baseline="30000">
                <a:solidFill>
                  <a:srgbClr val="000000"/>
                </a:solidFill>
                <a:uFillTx/>
                <a:latin typeface="Arial"/>
              </a:rPr>
              <a:t>os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 8.080, de 19 de setembro de 1990, e 8.689, de 27 de julho de 1993; e dá outras providência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rt. 36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.  O gestor do SUS em cada ente da Federação elaborará Relatório detalhado referente ao quadrimestre anterior, o qual conterá, no mínimo, as seguintes informações: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 - montante e fonte dos recursos aplicados no período;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I - auditorias realizadas ou em fase de execução no período e suas recomendações e determinações;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II - oferta e produção de serviços públicos na rede assistencial própria, contratada e conveniada, cotejando esses dados com os indicadores de saúde da população em seu âmbito de atu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§ 5</a:t>
            </a:r>
            <a:r>
              <a:rPr b="1" lang="pt-BR" sz="1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  O gestor do SUS apresentará, até o final dos meses de maio, setembro e fevereiro, em audiência pública na Casa Legislativa do respectivo ente da Federação, o Relatório de que trata o caput.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aixaDeTexto 4"/>
          <p:cNvSpPr/>
          <p:nvPr/>
        </p:nvSpPr>
        <p:spPr>
          <a:xfrm>
            <a:off x="2916360" y="260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m 6" descr=""/>
          <p:cNvPicPr/>
          <p:nvPr/>
        </p:nvPicPr>
        <p:blipFill>
          <a:blip r:embed="rId1"/>
          <a:stretch/>
        </p:blipFill>
        <p:spPr>
          <a:xfrm>
            <a:off x="301680" y="228600"/>
            <a:ext cx="2808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539640" y="2060640"/>
          <a:ext cx="8064720" cy="3200400"/>
        </p:xfrm>
        <a:graphic>
          <a:graphicData uri="http://schemas.openxmlformats.org/drawingml/2006/table">
            <a:tbl>
              <a:tblPr/>
              <a:tblGrid>
                <a:gridCol w="3961080"/>
                <a:gridCol w="410364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de Impo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24.622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Especí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3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 Apli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38.693,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c/ 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1.469,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7,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áv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.776,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5"/>
          <p:cNvSpPr/>
          <p:nvPr/>
        </p:nvSpPr>
        <p:spPr>
          <a:xfrm>
            <a:off x="1258920" y="115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3a53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565360" y="357120"/>
            <a:ext cx="596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Imagem 5" descr=""/>
          <p:cNvPicPr/>
          <p:nvPr/>
        </p:nvPicPr>
        <p:blipFill>
          <a:blip r:embed="rId1"/>
          <a:stretch/>
        </p:blipFill>
        <p:spPr>
          <a:xfrm>
            <a:off x="324000" y="166680"/>
            <a:ext cx="2808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tângulo 2"/>
          <p:cNvSpPr/>
          <p:nvPr/>
        </p:nvSpPr>
        <p:spPr>
          <a:xfrm>
            <a:off x="3564000" y="851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808200" y="3141720"/>
          <a:ext cx="7148520" cy="1401840"/>
        </p:xfrm>
        <a:graphic>
          <a:graphicData uri="http://schemas.openxmlformats.org/drawingml/2006/table">
            <a:tbl>
              <a:tblPr/>
              <a:tblGrid>
                <a:gridCol w="3116160"/>
                <a:gridCol w="4032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E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75.908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37.091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13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CaixaDeTexto 4"/>
          <p:cNvSpPr/>
          <p:nvPr/>
        </p:nvSpPr>
        <p:spPr>
          <a:xfrm>
            <a:off x="3059280" y="476280"/>
            <a:ext cx="50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5"/>
          <p:cNvSpPr/>
          <p:nvPr/>
        </p:nvSpPr>
        <p:spPr>
          <a:xfrm>
            <a:off x="2916360" y="170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RECEITAS ESPECIFICAS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1"/>
          <p:cNvSpPr/>
          <p:nvPr/>
        </p:nvSpPr>
        <p:spPr>
          <a:xfrm>
            <a:off x="133200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FINANCIAMENTO: R$ 3.802.776,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m 7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tângulo 2"/>
          <p:cNvSpPr/>
          <p:nvPr/>
        </p:nvSpPr>
        <p:spPr>
          <a:xfrm>
            <a:off x="3059280" y="201780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RECEITAS ESPECÍFICAS DO FUNDO DE ASSISTÊN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42920" y="3220920"/>
          <a:ext cx="7129440" cy="1000080"/>
        </p:xfrm>
        <a:graphic>
          <a:graphicData uri="http://schemas.openxmlformats.org/drawingml/2006/table">
            <a:tbl>
              <a:tblPr/>
              <a:tblGrid>
                <a:gridCol w="4033800"/>
                <a:gridCol w="30956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60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.58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tângulo 5"/>
          <p:cNvSpPr/>
          <p:nvPr/>
        </p:nvSpPr>
        <p:spPr>
          <a:xfrm>
            <a:off x="2571120" y="5137200"/>
            <a:ext cx="42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FINANCIAMENTO: R$ 1.470.448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aixaDeTexto 1"/>
          <p:cNvSpPr/>
          <p:nvPr/>
        </p:nvSpPr>
        <p:spPr>
          <a:xfrm>
            <a:off x="2843280" y="620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m 6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5"/>
          <p:cNvSpPr/>
          <p:nvPr/>
        </p:nvSpPr>
        <p:spPr>
          <a:xfrm>
            <a:off x="2268360" y="4653000"/>
            <a:ext cx="21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258920" y="115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3a53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09760" y="428760"/>
            <a:ext cx="773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3a537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aixaDeTexto 1"/>
          <p:cNvSpPr/>
          <p:nvPr/>
        </p:nvSpPr>
        <p:spPr>
          <a:xfrm>
            <a:off x="3203640" y="2602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aixaDeTexto 2"/>
          <p:cNvSpPr/>
          <p:nvPr/>
        </p:nvSpPr>
        <p:spPr>
          <a:xfrm>
            <a:off x="1409760" y="2060640"/>
            <a:ext cx="69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RESUMO GERAL DAS METAS FISCAIS REALIZADAS ATÉ O 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71640" y="2852640"/>
          <a:ext cx="7345440" cy="3411720"/>
        </p:xfrm>
        <a:graphic>
          <a:graphicData uri="http://schemas.openxmlformats.org/drawingml/2006/table">
            <a:tbl>
              <a:tblPr/>
              <a:tblGrid>
                <a:gridCol w="3024000"/>
                <a:gridCol w="1873440"/>
                <a:gridCol w="2448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OS DE GA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ÇÃ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com a Edu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ínimo de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com a Saú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ínimo de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pesas com o FUN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ínimo de 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  <a:tr h="91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pesas com Pessoal (Relacionado com a R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xecutiv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mite máximo de 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</a:tbl>
          </a:graphicData>
        </a:graphic>
      </p:graphicFrame>
      <p:pic>
        <p:nvPicPr>
          <p:cNvPr id="383" name="Imagem 8" descr=""/>
          <p:cNvPicPr/>
          <p:nvPr/>
        </p:nvPicPr>
        <p:blipFill>
          <a:blip r:embed="rId1"/>
          <a:stretch/>
        </p:blipFill>
        <p:spPr>
          <a:xfrm>
            <a:off x="324000" y="378000"/>
            <a:ext cx="30956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684360" y="3429000"/>
            <a:ext cx="7848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O espírito da responsabilidade fiscal pode ser resumido numa frase: nós não podemos gastar mais do que aquilo que temos capacidade de arrecadar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elipe Salto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agem 4" descr=""/>
          <p:cNvPicPr/>
          <p:nvPr/>
        </p:nvPicPr>
        <p:blipFill>
          <a:blip r:embed="rId1"/>
          <a:stretch/>
        </p:blipFill>
        <p:spPr>
          <a:xfrm>
            <a:off x="1763640" y="457200"/>
            <a:ext cx="53294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ixaDeTexto 1"/>
          <p:cNvSpPr/>
          <p:nvPr/>
        </p:nvSpPr>
        <p:spPr>
          <a:xfrm>
            <a:off x="2627280" y="83664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ângulo 3"/>
          <p:cNvSpPr/>
          <p:nvPr/>
        </p:nvSpPr>
        <p:spPr>
          <a:xfrm>
            <a:off x="61128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Objetivo da Audiência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onstração e avaliação das Metas Fiscais referente ao 3º (terceiro) quadrimestre de 2020 e a elaboração da LDO – Lei de Diretrizes Orçamentárias para o exercício de 20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ixaDeTexto 5"/>
          <p:cNvSpPr/>
          <p:nvPr/>
        </p:nvSpPr>
        <p:spPr>
          <a:xfrm>
            <a:off x="611280" y="386064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Parágrafo 4º,  Art. 9º da LR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final dos meses de maio, setembro e fevereiro, o Poder Executivo demonstrará e avaliará o cumprimento das metas fiscais de cada quadrimestre, em audiência pública na comissão referida no § 1º do art. 166 da Constituição ou equivalente nas Casas Legislativas estaduais e municipai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Imagem 6" descr=""/>
          <p:cNvPicPr/>
          <p:nvPr/>
        </p:nvPicPr>
        <p:blipFill>
          <a:blip r:embed="rId1"/>
          <a:stretch/>
        </p:blipFill>
        <p:spPr>
          <a:xfrm>
            <a:off x="324000" y="587520"/>
            <a:ext cx="2808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CaixaDeTexto 3"/>
          <p:cNvSpPr/>
          <p:nvPr/>
        </p:nvSpPr>
        <p:spPr>
          <a:xfrm>
            <a:off x="2906640" y="836640"/>
            <a:ext cx="51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ixaDeTexto 4"/>
          <p:cNvSpPr/>
          <p:nvPr/>
        </p:nvSpPr>
        <p:spPr>
          <a:xfrm>
            <a:off x="611280" y="22766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Art. 48 da LR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instrumentos de transparência da gestão fiscal, aos quais será dada ampla divulgação, inclusive em meios eletrônicos de acesso público: os planos, orçamentos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is de diretrizes orçamentári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as prestações de contas e o respectivo parecer prévio; o Relatório da Execução Orçamentária  e o relatório de Gestão Fiscal; e as versões simplificadas desses documentos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aixaDeTexto 5"/>
          <p:cNvSpPr/>
          <p:nvPr/>
        </p:nvSpPr>
        <p:spPr>
          <a:xfrm>
            <a:off x="684360" y="450864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Parágrafo Único,  Art. 48 da LR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transparência será assegurada também media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incentivo à participação popular e realização de audiências públicas, durante os processos de elaboração e discussão dos planos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i de diretrizes orçamentári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orçament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5" descr=""/>
          <p:cNvPicPr/>
          <p:nvPr/>
        </p:nvPicPr>
        <p:blipFill>
          <a:blip r:embed="rId1"/>
          <a:stretch/>
        </p:blipFill>
        <p:spPr>
          <a:xfrm>
            <a:off x="324000" y="587520"/>
            <a:ext cx="2808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CaixaDeTexto 3"/>
          <p:cNvSpPr/>
          <p:nvPr/>
        </p:nvSpPr>
        <p:spPr>
          <a:xfrm>
            <a:off x="3203640" y="981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ixaDeTexto 4"/>
          <p:cNvSpPr/>
          <p:nvPr/>
        </p:nvSpPr>
        <p:spPr>
          <a:xfrm>
            <a:off x="755640" y="2349360"/>
            <a:ext cx="7848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50"/>
                </a:solidFill>
                <a:latin typeface="Arial"/>
              </a:rPr>
              <a:t>LDO – LEI DE DIRETRIZES ORÇAMENTÁRIAS PARA 2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LDO - Lei de Diretrizes Orçamentárias é anterior à Lei Orçamentária Anu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definindo as metas e prioridades em termos de programas a executar pelo Governo. Segundo a Constituição Federal, em seu Art. 35, § 2º, Inciso II, o projeto de lei da LDO deve ser enviado pelo Poder Executivo ao Poder Legislativ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é o dia 15 de abril de cada ano. O mesmo deverá ser devolvido pela Câmara para sanção até o encerramento do primeiro período da sessão legisl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acordo com a Constituição Federal em seu Art. 165, Inciso III, § 2º, a lei de diretrizes orçamentárias compreenderá as metas e prioridades da administração pública (município), incluindo as despesas de capital para o exercício financeiro subsequente,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 orientará a elaboração da lei orçamentária anual,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disporá sobre as alterações na legislação tributária e estabelecerá a política de aplicação das agências financeiras oficiais de fo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5" descr=""/>
          <p:cNvPicPr/>
          <p:nvPr/>
        </p:nvPicPr>
        <p:blipFill>
          <a:blip r:embed="rId1"/>
          <a:stretch/>
        </p:blipFill>
        <p:spPr>
          <a:xfrm>
            <a:off x="324000" y="587520"/>
            <a:ext cx="3168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684360" y="2565360"/>
          <a:ext cx="7704000" cy="3622680"/>
        </p:xfrm>
        <a:graphic>
          <a:graphicData uri="http://schemas.openxmlformats.org/drawingml/2006/table">
            <a:tbl>
              <a:tblPr/>
              <a:tblGrid>
                <a:gridCol w="2249280"/>
                <a:gridCol w="5454720"/>
              </a:tblGrid>
              <a:tr h="608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Arrecad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471.286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2.443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13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.80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S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91.230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10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D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01.778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Text Box 46"/>
          <p:cNvSpPr/>
          <p:nvPr/>
        </p:nvSpPr>
        <p:spPr>
          <a:xfrm>
            <a:off x="1476360" y="1655640"/>
            <a:ext cx="64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Acompanhamento da Receita Orçamentária Arreca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até o 3º Quadrimestre /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aixaDeTexto 1"/>
          <p:cNvSpPr/>
          <p:nvPr/>
        </p:nvSpPr>
        <p:spPr>
          <a:xfrm>
            <a:off x="2700360" y="2602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Imagem 5" descr=""/>
          <p:cNvPicPr/>
          <p:nvPr/>
        </p:nvPicPr>
        <p:blipFill>
          <a:blip r:embed="rId1"/>
          <a:stretch/>
        </p:blipFill>
        <p:spPr>
          <a:xfrm>
            <a:off x="324000" y="233280"/>
            <a:ext cx="2808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50920" y="117360"/>
          <a:ext cx="8424720" cy="6215040"/>
        </p:xfrm>
        <a:graphic>
          <a:graphicData uri="http://schemas.openxmlformats.org/drawingml/2006/table">
            <a:tbl>
              <a:tblPr/>
              <a:tblGrid>
                <a:gridCol w="235080"/>
                <a:gridCol w="218880"/>
                <a:gridCol w="851760"/>
                <a:gridCol w="2141640"/>
                <a:gridCol w="2618640"/>
                <a:gridCol w="2358720"/>
              </a:tblGrid>
              <a:tr h="366120">
                <a:tc gridSpan="5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5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gridSpan="3">
                  <a:txBody>
                    <a:bodyPr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 gridSpan="4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TA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TA CORRENTE LÍQU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335160">
                <a:tc gridSpan="4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TAS CORR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205.88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3"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97.980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ta Tributá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9.867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tas Contribuiç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59.00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Patrimonial/Ind/Serviç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.467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erências Corr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43.67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Rec.Corr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.865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TA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4.791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ções de Créd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enação de B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erência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4.791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Intraorçamentá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DUÇÕES DA RECE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48.895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 gridSpan="4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001.77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258920" y="115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3a53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2411280" y="35712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Imagem 7" descr=""/>
          <p:cNvPicPr/>
          <p:nvPr/>
        </p:nvPicPr>
        <p:blipFill>
          <a:blip r:embed="rId1"/>
          <a:stretch/>
        </p:blipFill>
        <p:spPr>
          <a:xfrm>
            <a:off x="250920" y="-15840"/>
            <a:ext cx="2665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5"/>
          <p:cNvSpPr/>
          <p:nvPr/>
        </p:nvSpPr>
        <p:spPr>
          <a:xfrm>
            <a:off x="2268360" y="260280"/>
            <a:ext cx="594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ixaDeTexto 1"/>
          <p:cNvSpPr/>
          <p:nvPr/>
        </p:nvSpPr>
        <p:spPr>
          <a:xfrm>
            <a:off x="2050920" y="13906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</a:rPr>
              <a:t>COMPARATIVO ENTRE RECEITAS / DESP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aixaDeTexto 1"/>
          <p:cNvSpPr/>
          <p:nvPr/>
        </p:nvSpPr>
        <p:spPr>
          <a:xfrm>
            <a:off x="755640" y="49417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NIBILIDADE EM CAIXA: R$ 4.320.737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RSOS LIVRES: R$ 851.849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ECIFICOS:           R$ 3.468.887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84360" y="1916280"/>
          <a:ext cx="7656480" cy="2592360"/>
        </p:xfrm>
        <a:graphic>
          <a:graphicData uri="http://schemas.openxmlformats.org/drawingml/2006/table">
            <a:tbl>
              <a:tblPr/>
              <a:tblGrid>
                <a:gridCol w="2595240"/>
                <a:gridCol w="2421000"/>
                <a:gridCol w="26402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 EMPENH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 LIQUI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931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7.001.778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5.757.776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3.506.428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ÁVIT: R$ 1.244.002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32" name="Imagem 6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2808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258920" y="115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3a537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492360" y="457200"/>
            <a:ext cx="511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3a537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ixaDeTexto 1"/>
          <p:cNvSpPr/>
          <p:nvPr/>
        </p:nvSpPr>
        <p:spPr>
          <a:xfrm>
            <a:off x="1476360" y="2565360"/>
            <a:ext cx="6551640" cy="2654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mites Constitucionais a Obser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ucação :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úde:       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âmara:      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l: até 54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do 51,30% o limite pruden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5" descr=""/>
          <p:cNvPicPr/>
          <p:nvPr/>
        </p:nvPicPr>
        <p:blipFill>
          <a:blip r:embed="rId1"/>
          <a:stretch/>
        </p:blipFill>
        <p:spPr>
          <a:xfrm>
            <a:off x="324000" y="378000"/>
            <a:ext cx="3240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95280" y="2009880"/>
          <a:ext cx="8142120" cy="3751200"/>
        </p:xfrm>
        <a:graphic>
          <a:graphicData uri="http://schemas.openxmlformats.org/drawingml/2006/table">
            <a:tbl>
              <a:tblPr/>
              <a:tblGrid>
                <a:gridCol w="4611600"/>
                <a:gridCol w="3530520"/>
              </a:tblGrid>
              <a:tr h="548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8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de Impo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614.969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do FUND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2.443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Especí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6.156,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ção Fund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09.280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pl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40.040,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8,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áv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6.298,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5"/>
          <p:cNvSpPr/>
          <p:nvPr/>
        </p:nvSpPr>
        <p:spPr>
          <a:xfrm>
            <a:off x="1258920" y="115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3a53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2987640" y="378000"/>
            <a:ext cx="555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3a537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 MUNICIPAL DE JAND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ção das Metas Fis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º QUADRIMEST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8080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3:34:52Z</dcterms:created>
  <dc:creator>PARTICULAR</dc:creator>
  <dc:description/>
  <dc:language>en-US</dc:language>
  <cp:lastModifiedBy>MAYARA</cp:lastModifiedBy>
  <cp:lastPrinted>2013-09-24T22:50:11Z</cp:lastPrinted>
  <dcterms:modified xsi:type="dcterms:W3CDTF">2021-02-26T12:59:50Z</dcterms:modified>
  <cp:revision>326</cp:revision>
  <dc:subject/>
  <dc:title>Slide 1</dc:title>
</cp:coreProperties>
</file>